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drumroll.wav" ContentType="audio/x-wav"/>
  <Override PartName="/ppt/media/laser.wav" ContentType="audio/x-wav"/>
  <Override PartName="/ppt/media/whoosh.wav" ContentType="audio/x-wav"/>
  <Override PartName="/ppt/media/clap.wav" ContentType="audio/x-wav"/>
  <Override PartName="/ppt/media/image2.wmf" ContentType="image/x-wmf"/>
  <Override PartName="/ppt/media/type.wav" ContentType="audio/x-wav"/>
  <Override PartName="/ppt/media/camera.wav" ContentType="audio/x-wav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4DA7-9D29-4E47-B637-B379AA63B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7411-4289-435F-B39E-F32945D0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53E-A229-4797-9D56-8F529554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7F6-2014-48FC-8135-BAA0C075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03B-77E6-42F9-9296-2C9E196A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800-6147-4034-B177-CE65C100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2C33-64FC-4F93-822D-375307E5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594B-3E2E-4B56-86A2-95D64242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BC6F-D771-4ED7-BB39-E721AB8D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FE11-E3F3-4F56-BE03-35AF521A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3F95-082F-4D39-A842-AE245EEC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20DA-CE7D-4B12-B9C9-A5EE85AA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82EF-67BA-4EC1-BA5A-E7F63061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C70-3872-430A-A704-0ABD2C28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A207-9826-457E-811A-A28A0A80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EDC2-1BA3-44AA-B8D4-D6E11801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9694-E76D-4971-A5E6-721FA291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6E24-FE99-41C6-BBD9-704CF1F1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00BB-4E6F-4F0C-8DBA-720A9A10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A29-F35B-446A-872F-91C1B286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C5A-BAB9-4265-A3F3-70359C18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65E-38DF-40BB-8393-AEEA3E5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CC6-A83F-4033-B992-71B4E0C4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004-DD89-42A4-ABA7-DAF4E009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31C-1EE6-4D2A-9353-D85435CF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D4B-DCBA-4C76-BDE3-214565E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C4BB-F0E8-428D-903F-308D43DB3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F9C5-880C-4D0F-B724-E41DABFBB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clap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clap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nglish Not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mplete Subjects and Predicat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lete 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all the words that name who or what the sentence is about. 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mple 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ain word or words in the complet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The empty glass fell onto the floor.  </a:t>
            </a: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Gla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imple subject.  </a:t>
            </a: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The empty gla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complete sub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lete pred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all the words that tell what the subject of the sentence is or does. 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mple pred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ain word or words in the complete pred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The empty glass fell onto the floor.  </a:t>
            </a: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Fe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imple predicate.  </a:t>
            </a: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Fell onto the flo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complete predic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ets Practice!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ky-colored glass is used to make light bul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kinds of glass do not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kinds of glass can be heated to very high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imple Subject: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Complete Subjects:  Milky-colored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ome kinds of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Other kinds of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entences and Fragme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expresses a complete thought.  A sentence names someone or something and tells what that person or thing is or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am went to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frag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do not express a complete tho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pent hours in gift shops.  (Who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et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 Practice!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entence or Not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mily visited many places thi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o th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ings b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change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watch mov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id you get them right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mily visited many places this year.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o the house.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Frag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ings by hand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Frag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change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lives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watch movies.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Bookman Old Style"/>
              </a:rPr>
              <a:t>Four Kinds of Sentenc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eclarative-   (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a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terrogative- 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s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mperative- (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a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xclamatory-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strong feeling              or e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85800" y="220968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1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4076640" y="2371680"/>
            <a:ext cx="3695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 Black"/>
              </a:rPr>
              <a:t>Reme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forget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ntence always begins with a capital letter and ends with an end m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:\Program Files\Common Files\Microsoft Shared\Clipart\cagcat50\SO01038_.wmf"/>
          <p:cNvPicPr/>
          <p:nvPr/>
        </p:nvPicPr>
        <p:blipFill>
          <a:blip r:embed="rId1"/>
          <a:stretch/>
        </p:blipFill>
        <p:spPr>
          <a:xfrm>
            <a:off x="4076640" y="2179800"/>
            <a:ext cx="36957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ets Practice!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candy do you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get the paper off the po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, you did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watch old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id you get them right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candy do you like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? (interrog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get the paper off the porch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 (impe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, you did great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!                (exclam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watch old movie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         (decla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ubjects and Predicates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part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ject tells you who or what the sentence is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y friend Mark loves to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who the sentence is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d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ling part of the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dicate tells you what the subject is doing or has already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y fri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loves to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edicate of the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6:20:05Z</dcterms:created>
  <dc:creator>Melody Shaw</dc:creator>
  <dc:description/>
  <dc:language>en-US</dc:language>
  <cp:lastModifiedBy>lkeeler</cp:lastModifiedBy>
  <dcterms:modified xsi:type="dcterms:W3CDTF">2010-09-15T12:23:47Z</dcterms:modified>
  <cp:revision>14</cp:revision>
  <dc:subject/>
  <dc:title>Four Kinds of Sentences</dc:title>
</cp:coreProperties>
</file>